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C76-F8D1-4228-935D-EB5AA7917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534-1086-4D58-9241-8673E4958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AC89A-9CA5-4126-AA9B-85207EF5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883F1B-7A58-479E-983E-8F1AD97E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951C95-3484-4354-959B-F31235A9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61DBA-AD95-4CA5-AAD9-93857455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3D540-3EE8-4989-BE8C-4FDBE98D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331A4-2358-4120-A827-9DACC871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405F0-33A3-4B11-9365-D5B089E2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9BA85-6A02-480B-B792-DCBA32E1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3A8E5-B665-41C0-9264-2A1C404C7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3A85A-3E33-495C-B280-BB982735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A249-7207-422E-8A50-FD68201F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59B60-EEA6-4DED-9824-6988F1682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FAFE3-617C-46BB-A37B-71E1A960D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D58D16-6B47-4DD7-B2B3-8059348A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B1571-4E39-4DA5-B189-34C870CC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6B895-0813-4314-94AD-E41A9F745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AF1F4-C525-478B-9526-D077254B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4D7CBB-3363-4D74-B36B-E35BD178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B3C6E-886F-4710-9D2F-49275CE5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55B22-29E8-4FAE-8821-C4AADC4B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DA6BD-00ED-4C98-9FDB-4717C17B5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C407-AC74-41A9-9482-6BA7DFBD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4BAA5-4473-4A88-81EF-FFD9C4EC1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CB9049-5B4B-432C-A2EC-AE6DC07F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E1FA8-B405-4452-ACE2-B3875D33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552D35-2D19-49B4-B83C-66C4EF2B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7916E-DE3B-4774-962D-963A8A141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44E3A-0A8E-4468-8349-BD8AD799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A2E0E-230E-4106-9BEA-12824DBC0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1B9FF-C7AF-4B25-BEFE-8C34E7DF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572EF-7103-440C-ABFE-CCBD051A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A251C-3DF1-4973-8559-CDD517B6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5D8E-774E-4459-81E0-6160CD85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466FF-EA22-4D72-8F8E-AAE79703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B39EE-9E0A-4BA0-A495-B1A2B1F27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7A172-3F21-4AD4-A0B9-47879290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943DF-218F-462A-9640-DB2822645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97F79-0003-4392-8B6A-30A44688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C0045-7E1D-405E-8019-82FFBEAD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9695C-959F-49AB-AE20-A43568255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B09C2-A1AD-42AF-82AC-BDCA4F26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8D179-6344-46D0-BBFC-B3DD4CDC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AC7FD-A16E-4E90-BAA0-FB3A555A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C75B-A869-4B1B-B3B2-0E705736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AE7E2-01CC-4B06-9B39-BD124AD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A33AB-4443-4657-A745-6ABBD22F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8C527-217C-4879-807B-1D3471B0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42A70-E370-4ABB-A11A-8A4D7BA1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6B0C0B-848C-4F55-BC8E-9172F35E7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021C42-DDA6-496E-BF88-2FFC8D58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94255-933A-4023-9485-2617D0BA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EF8B55-A7AC-4123-A994-39BA65FF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4F781-813D-47B1-AB83-D59762C3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AD53F-6F31-48AC-B363-36B7CBBCF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D8BF-E61E-4EF7-8EA1-4E94D560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22D61-AFEF-4ED5-BFE1-F1552E6B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03E02F-FB92-4A7F-9DFF-4640063C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D1B6D-93FD-4189-8399-DFEAC4AE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A0D74-574D-4386-9A26-E23F3D7C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1C4059-7CAF-4BB7-BE25-6C3A7E9C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348DE4-C906-446C-991F-79C3BCA7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42AD5-986A-490F-AFB8-0743E43F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5A04BF-20DD-4453-94B7-F195A5A9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EA04CD-D20F-4B12-99A5-C4DDD264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B09E45-F92E-46B9-8B70-4CA5FB8E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21DE-21CB-4735-9CBE-F22150A6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92101-59EB-4FBE-924F-4CF89CE2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525692-62B7-456E-AACC-CC1D589E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820353-ABB5-4ACC-AD33-01BF8B23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CD48F4-FE10-44F1-9662-34D7A289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622087-B42F-42CB-9829-88E57083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C4957D-A6F2-4ECC-8B87-A36F0025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DD0F69-3F64-43A7-8207-0F4AB3B6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3F4B2-9B0A-41D9-802C-DD1B84176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C3FEE-DF5F-4D8B-9B75-816E4B328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E00E02-16AD-45EE-8A79-432578A2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B469-2D1F-44DD-A785-A8938189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C7F2C-79B2-4391-A023-65508102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724430-AE3C-4298-A015-8DEBE3FD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AC9DC1-0CAC-48E2-ABBC-582FC179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B50FEF-0F6A-4CF3-889C-6B7BC849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6CBFAD-9DCA-44C4-98FD-EA341A19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B6B519-EDB5-41A8-A3DC-4D2D541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2D2C13-10B6-4584-99F7-D6457E53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811E84-3042-4757-B882-A516A8D6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1B3758-B5D4-4F94-A80B-67E684C9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D353D0-5D36-4130-BB1C-746890EA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1330C-C400-4D27-912D-E44BF1D3E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105D3F-4BE3-486D-BB08-21C53F7E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EDDB5-8B46-47AB-B059-935B810D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C9EDB-6197-432B-A93E-6CE88D56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3ADE3C-F7F9-4C93-A5F6-CF845D5D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AF3624-62B4-4BEC-B907-365AC706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25C42F-D273-4398-8F1E-E2720396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DFAEA8-F221-46E4-8572-327D706A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5EAB32-A98C-4B3B-AD1A-75E8D1E3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F5DC6-A762-4374-9FE7-B7B1370D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C15A15-8DFC-4F30-9079-78264F99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F862A-CDFE-428A-8CF4-AF097BFC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52969F-CD4C-4FE9-941E-2635B03C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1E77B0-0FE1-4559-8318-114114A4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585320-F664-467D-B406-B9106F44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F0FB0-C1BF-4571-8641-F287E6B1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A068E-F5EB-4E1D-86AD-711B52F8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CD036-0506-4710-B3FB-56BE3F36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F5A35A-76EF-49FA-8B65-E5E8AAE9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37B0C7-C137-49F0-A2D7-9E2EDDC9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A19BF4-D2DD-4CE2-8214-319F43E8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BE08D3-3419-4F0A-A077-DCFCA8E2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B7B3-CAB6-4D07-8E53-D0FFE85F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A13E-DDCF-49B6-9290-5B0C9C5D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7B500D-C463-4257-81D0-658D5ACB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F1729-B0A2-4110-937A-2DCB76B2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AABC79-BD61-4DF6-BE30-D3A47491F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E61060-1508-436F-B1C0-5481E865D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9DF566-A2B0-45EE-BE62-1E6C1317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1A56E8-F4DA-4D5B-8C97-AEE89EB2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83330E-117F-4988-B1D1-C86BDB377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2CD4B7-6830-4AC0-BF80-14DB0D40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9763DE-E3EF-48AC-BBE6-9CA3243A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52DE5D-BAA3-4353-B5F3-F6804A83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4D82-7044-4E09-8472-3F17FC95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BD88F0-BC4B-4A48-8259-0A2CB051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DA1BA0-491A-4F7C-82AE-30B37EAE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4D9782-CED3-4AF2-9342-7B228E34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A16C86-BE45-4DA2-B073-8BEE1810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63FD3-01B5-498F-847D-E12A04D2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E8061F-45F4-4293-B88D-A1AA09C0B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994B54-68EE-4CCB-81D5-B572FF88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FCD40-119E-443A-93C1-8D6E64BF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50F460-EE9B-45C6-90ED-64D0AE091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63ADC-5561-4EFC-8B3D-EC3831CE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30EB-C891-40EC-9B81-E2C4E776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23FA88-A5E8-4BBD-A4F8-81E64F7D4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52A872-C4C7-4AF3-BE8A-5EC3A441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C814FA-D221-4815-A34F-250238D5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100E3D-3D38-426B-A2E1-29804D1A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007D5-C6CD-4DD5-8030-FAF52D57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6BB528-F183-4A6A-A45D-84424D7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F351D4-680F-4768-A071-955DD07B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B3FB6E-BE3D-47B4-AEC7-7AB38D07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EA88B4-DE75-4F8B-9808-176A61F1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ED599-4664-41CA-9072-DC4E9D82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B4A5-781A-4DC4-A380-60C41766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559F43-DCC4-4937-9784-9AE5C474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F3B6C-C289-4A5A-AE4D-70858CE5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3EFCFF-F99F-406F-95AD-40A4D7CF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0AD936-0DCB-45F6-BA6C-91287B52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DC117-4428-4719-B90C-2F690F8A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B99B74-48B1-42A0-904A-CA4CC67F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17FFCF-780E-42FE-B504-85754C61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49B750-3FF2-40BF-84D2-C0E41D33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34FA7D-3056-4AB1-B884-8A1209F3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113F5A-10DC-432E-9131-6E2854AD8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860D-0792-4B0D-A8AD-9F8C0D755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79FA21-82B9-41E0-92F7-290169CEF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24D32A-A46A-4ABF-A518-3C10153D1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90DEE4-A910-43D0-A826-4BB85A78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C2491A-2022-4150-8CE8-07A5FEEA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5E6A17-6025-4F62-A740-33845CA8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8370B5-F94A-4CC2-9394-6AB51E5F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81A61E-BCFC-42CC-9FF6-6AE7E87A0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904337-C42F-4858-8E92-0E21341F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969104-F322-49B1-AAC5-20A03B47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564D2A-FB72-4866-A02B-A1EBC18F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6BA13-0CCE-4355-88A3-F9A460AC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E308DC-0400-4FEA-81C6-F9055CD4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EDBEAC-4646-4CE9-BF40-D9C65DF0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8AB6963-06BF-487A-83EB-97C1925DB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162378-DEEE-4BDD-86A8-1E7F6E0B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B6FAB2-9A5C-488E-A2C2-50CE6DAD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49506F-10F0-4AEF-B237-04407BF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E74685-83A1-4535-8BE2-5758C75F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13DF73-421A-4AAD-93F2-C1214FAB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A24864-F47A-4B97-BB06-1264A773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A65C92-FC16-4276-95D7-F327B0EB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A20D3-1EA1-46E5-8579-62750ACBE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4A8C77-FC8A-431D-ACEB-0260C82D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CDF137-31DB-4541-BB37-326FC9CC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6B4640-2F6E-449C-AAD3-521B9A65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9719B8-45B6-402A-BCF0-CC0534C7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2061B3-633F-40F8-90F4-2CFF57268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AB98E0-844E-4B63-B0F3-F45E5E13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3C9470-6585-4AF5-B675-BDEFA44C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8A0EB0-23A7-4A90-83B5-2410B9BF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962D7A-D632-4064-95E3-6B51DA59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39A5E9-CE53-41F7-A066-35D171DD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588CF-CE90-42F6-BEFA-AF7A6DEB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BC24A2-65DD-47E6-9D85-4577E966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D1084B-7AF7-4C7F-B462-7F4FE879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E5CFC60-6C32-4FCB-BCBE-A592165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6D8CBA-5626-49A3-9A46-6DC1D4F22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B0D668-2445-4D21-89C5-71FAFB2D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AA09F0-4216-45A5-B906-744E7F82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E501C7-817D-4931-8F8E-018233FF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F9CA15-0A8A-4022-B9F5-C721F0C8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3311A8-DC55-4AA4-AD95-D0A8CEB2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07DDDB-3890-4BB0-B036-1A1AFF86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E5D2D-DE7D-4E3A-9487-6FB5B195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35431B-6D74-4657-B66A-0E31C3A7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1229C07-FC02-4DA8-9B61-50CA5527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DEA139-4EF2-4FD8-84DE-CAA51929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87EC01-194E-4B40-A981-59842C28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04BF9A-9E18-4019-8AFD-4E42A9E8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3DD750-7DFA-405B-85D7-AEC899D7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E7386D-85EA-4F0F-8384-C62FD4A0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CF3699-BE51-4B5D-982F-EC752661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67178B-6ED2-4E95-93BE-7AD71455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D02FF8-F4D0-4B5F-B774-E99E0313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D81E4-9BDC-4C9A-9FCD-DDF6C4DB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9A41F4-F93D-4FF8-9F30-87CF0FBA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000287-145E-4BDC-9244-5AFC05CD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3B4D654-0D04-4FB2-9937-BF72A564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CD21C3-FCD1-454D-A80B-E49F4E52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FF859B-BE00-4246-93F4-00BC6D6E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27DCF6-FF12-417C-B08D-D1121D8B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9F56D9-A160-4211-8861-B1EAE38E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43E63D1-96AD-4E7B-9920-74B75F27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16DA3B-DBC7-4374-B1E0-FF8A3663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CE2359D-91EE-4705-9EEA-94EB7EE0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A95F-D274-42D3-8331-79B5287A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2E703-1DF5-407D-B84E-D51A668FE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C6AD4E1-3459-4D55-9A84-993B9B8D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069787-FFC8-443C-91FD-C6E375E3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E07082-237B-4B06-A992-81D5E00E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1CCDE9-8B7E-4FC6-8822-4AB4BFF8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48F039-69E5-4A1F-A601-A60FC60C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1561C0-636E-41F9-B1BB-9DC2AF19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56B54D-D497-4B3F-BF3E-B43371D0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8713DE-A4B1-4D67-9FE6-548C0AD5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C3308BC-4169-4722-8B39-A0D11BE8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17EE23-D183-4B4F-908E-61D5C7DF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C5289-5910-45F3-8546-4A565C29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608B28F-1BA3-48A7-84BC-CAED055F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B77D96-C5B4-4452-B34E-C96035EF0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08CA04-FD62-46BC-9FBD-A9862F9A2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EB39C5-D843-4F00-8081-C79D5E54A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858003-179C-4DDC-93AD-FF5F0BC2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A3E415-5378-419D-BFDB-5E0B0D86C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30B0FD5-51BB-4A92-9318-2421F7CD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3DA1C52-DDC3-420B-A71F-C4A67EF6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5A090D-093B-42DC-B38C-23634231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940D76-B2C8-4CBC-B594-4D4DD1CD6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93078-0142-42E0-ACE0-94F0C999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59EAF9-0BDF-4D88-827C-7A87782B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1BC946-AA5E-4AEE-B546-BD07C3D1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308ED0D-8B46-4341-B8E0-05149D39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E9A198-61FD-4A23-84AB-D0B6E00E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7C45C5-2970-4333-A90A-4D2F958B4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EA68F2-9762-4F98-AC2C-54F46EFAF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2CB208F-05E1-4E2D-A534-16F3C31A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4259377-DD86-45EA-86AB-38A8BA68B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377B3A-B6F5-48AE-B145-6B0485E7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69724E-5223-49E0-98A4-4E989113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75AE-2335-4240-B946-2CEA82E0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EE6CF9-DBF7-459D-8CB6-98467D6B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A9490EA-173F-48F3-ADA9-688110B8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9567AB-4904-4D3C-B0C9-FA129B77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051FC5-1458-4EE3-B209-EDB6B671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F662F6-8446-4A9D-8615-4BC25C41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C5DABB-D4B2-4D19-B592-BA253597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48E976-49F7-4F06-8E04-54B4D1C6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CE794D-01AD-45A9-ADA5-559921F91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F38A30-82BB-42EC-ACAB-21BB18C7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D809B6-4AC4-48D3-A211-0607338B9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B6DBA-2D06-44F6-AC77-F7A9B70E9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828A06-0AAC-4D4E-A7B9-5B788D84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11FCE1-09BA-4FB4-979F-25AAB4E1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03DB7F-F350-47A4-AF8E-CEBC253A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D7CFC62-6FA5-4543-A67B-B2F25F59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4CABF2-99F1-4F00-BC9E-B788F56C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E628F5-E2E0-47B5-B8D1-E4BBA9A55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BFBE4E2-76CD-4525-A78C-8D1BA82D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A58526-31AE-4144-BFC9-DA527E1B0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70EA8E-076E-4BAE-AEE6-DCB5FDF2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D6F3E0-FCEA-4283-B0E7-947F3EB3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B5189-2E9D-4C9B-B5B9-CFFDFF9D2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B494DB-3637-4A5D-9474-3F0E24DB9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58CBE16-BAEC-4D31-91F0-C244E7FD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75A77C-8098-4FA7-8C92-65F8B2AA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1DFE7C-A283-4D9E-BB40-2F2A9461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BBFA2E5-6548-41B8-93B8-1C3E4E6C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0C2E6B-60D6-4F13-A768-EB8D094F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2D4788-1325-4068-8A46-BBF2BBB9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4E5B6A-A17F-4E17-ABD0-FA7E4427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5D1E1D-11D1-429E-8C3A-33741F44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C9DDEE-DCB5-4520-9201-76C43153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C1AEB-5E86-4109-B561-92E5074F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84823D-257D-4E22-9C17-5C9BBABA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C9532A-7645-4F3D-B81C-43C37DBBF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A256DC-4834-4409-9F43-F399229E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B85FAC0-137B-48B0-8F0A-91312F4E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E112A9-F710-4118-99DF-CC68D07F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48A1EE-1114-4DC4-A607-80C327F5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2306D3-4BA4-417E-B6F1-79D2ABE8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3B1CB6-098F-4130-BBC7-C38E9DB0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F49E4B-2A62-497B-A6E9-CE6D9A35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1F8C72-8751-42C6-80E0-C980AD02B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80852-E874-472A-8D10-7B723F69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881FAB6-749B-4C9E-8641-04243B7B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62153D-BD15-46F4-85AB-E6FDFC07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83A6D2-C16C-41CC-8E1D-0B9652474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3CDCF-F137-42AC-8588-2BA15F44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252EB-EF90-404E-A96C-E5D63A8E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0901-FE00-4FF8-86D7-EEBB8AB2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89A17-98AD-47B1-8BCE-89D65B58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D8FE1-147E-4D16-9C8A-411E4884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4FA7D-368C-4165-AD3D-7BF1D83E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5EE8-F101-4172-809E-728484474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78805-41B8-4023-9811-4F7BCC10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A19EA-A705-43FF-AEDF-22D900C3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A0314-E69B-4790-9A89-3943A9B1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29AEA-B298-4446-BDF2-B24BF4C7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799ED-00A6-4D67-90D4-C4CCF8B55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08BBC-13C3-493E-A203-402341FD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B9B3-597F-47B8-840C-C722E01D2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62F56-9AE6-40DE-A2F9-E3519307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9A9452-02AD-45B4-8673-2DFB99E2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5EC07-F09B-4EC3-A36E-297148C2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8AA95-7C19-4E08-A3C4-F72EFCF2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A6CE11-14D5-46C0-83F7-8CE85C82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B2E1A-BE47-408C-BE56-5B9B6DA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D3510-4BB2-4456-ACD4-139EAD36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C55FF-FE7E-43D7-9816-38DC7933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920BB-4B4D-4DEC-A3B7-73EE01B7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8C505-27BE-47F5-808D-3D655B5F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6B8D-8545-4140-992C-0773FA72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EFCE2-97CF-4EF3-839A-F3480D777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6A057-FA7B-4265-8C41-4AB96806B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1DD78-F176-4F9D-A09B-A3762D4F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3F49D-751A-4BBB-8280-C718FDA9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A895-DFD4-4A3E-A11A-A40D7927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2E544-54E4-4D11-B91C-2E786A74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7F92F-420C-4A22-BE9F-04E7D97D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55689-E2CF-4DAA-AD1B-69B23047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2E4B6-B107-416A-A400-6C866EAFF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0CECB2-9937-4593-9A7E-A0A0AB89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0A0-7C32-4DE3-BDA7-F833DFA0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93215-ADCD-4D39-B576-099159C5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940A9-63CD-49F5-9456-B0BFC3FE3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7003B-C9D5-461C-B72A-A1CE33946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F5C57-6557-450A-B03C-36DAC0FF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0A3DD-BD2C-40CB-93B1-1147AB08C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53630-8CCD-45E8-AA72-A8632858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3D706-FF8F-406D-A315-8182227BC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CC19B-5CEB-47AA-AED9-ADE3C1E9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D9D4B-A690-4F88-B937-5F824214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98764-0C58-4A86-844E-7B8DBEF6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E4A5-A614-4A45-A3FF-F6883801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3062D-2503-4EA3-BACB-7E89682C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6F951-453A-4C9A-98D3-164ADE42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3656B-B177-4F5F-B8C5-852D2A9A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8C727-80B7-4063-B70C-B96E2E9E7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7EA012-9C7C-433C-812E-95CB0A0B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DF5B3-8C40-46B7-9107-158DDD3DE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99EF9-82D1-4DB2-B180-EDD7ECDE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73043-7775-4B69-AB4D-51CCDB27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1859F-A929-4D62-87F6-B038302F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81758-3F0C-4062-97DD-651D3A18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14BE-C34A-46C8-B0C4-E2B67C02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380FEB-2F1D-4481-B29E-D571DDB9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A437B-74E2-414A-A33F-73AF92BE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83CA3-CD0E-40D5-AB17-925B41C3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4A546-1CBB-4476-95E7-D79AAEC6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C5004-AB84-4462-A949-A543D1A4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937629-BB6E-48F0-BBA7-E8CEF0A8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D2D4F-D585-4237-9948-15CEDEC4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41533-2994-452F-A6AF-341820F52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7C49A2-1EAE-43C7-A6BC-2FF7DEA9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CEE11C-0C04-49B5-8C64-F84FF6457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5CE9-119A-4154-8382-77D5B3BCD3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F75B-4B5B-4DA1-A7D3-FD6DBD600C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8D22-9855-46ED-8B1B-DBBE3C03B8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E408-C56F-464B-A5DA-00740F6EE4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64C2-7D3E-49BA-B393-E4CA720179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C78F-CB42-4E7D-B32A-4ADDF9228C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175F-5D23-4D81-9CEC-FEE6D50E77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B783-D26B-4FDC-903E-3470B06DC3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1487-D950-4AD2-B106-3DBC258989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73ED-7004-4F9A-A070-DE1FDCD7D2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5887-5262-43E5-BB5F-D8A96F62CE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A523-8869-4916-B5EA-EAAE46C633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706E-9704-45CB-8009-10EFBF3929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9516-7EFB-4FA4-B68E-0CB6910B73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B599-AA17-4365-A716-7D612B7E03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F9C3-3BD7-416A-A2D4-5BD0E0CE88D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4D4A-895E-4926-98C4-189393000C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9F6C-B4F9-43F7-B463-A56D6839AE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BA9A-A765-4DF1-90D1-8139DEB327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4833-0010-4308-A838-37C1BD6BCB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271C-FA80-455C-852F-FBE6986C9B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BC9D4-FEE8-4746-B3BA-F685CB7F1B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F6BCB-3142-4014-B702-48A48FB863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183A-BD36-4DAC-8A5D-5D2C23C3DA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E0BE-EE5A-4F0C-BCE5-9786F26824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E057B-A690-43A8-99DA-7042CCF29C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190E-70F9-4885-B6EA-5603E2EADA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A9D1-789B-4A17-A9EE-28AD38025D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070E-7893-409F-A707-DB02CFDCA1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0AA2-E939-466B-A07F-2391A87B5D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3E26E-2975-4850-8D71-45E5F30FB4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45A4-190E-4604-900A-F6A3327EF7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5B415-019D-4575-B966-B5121587D5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5C76-8077-4DFE-B483-3E929B344A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041C-AFDE-4BC1-9110-16547CD9D7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3627A-F956-4C44-9EEA-F25F5D876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C687-19BF-43B5-911C-5B0DB10115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8FAB-46E1-4FE1-A753-B87EE820AE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5FCD-8445-4377-AC2E-4D50F1C06D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8E75-A57C-435F-BA27-BD4DE16FF3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14B1-377A-43C7-BECF-6FEBD82E5C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1980-3BC6-450A-AEC6-7A41939C67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080C-F6E8-4673-B74F-01D4D480AE6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931B-1287-48CC-8AE3-D3A0F213F4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6B98D-7E53-4280-898C-43FC7606F7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1F7D-E788-48E2-8611-92CF9C9E31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1A4A-F5F7-4244-9FEF-FDF88AB2F3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CF50-60B0-443C-A131-30A396BE14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BE92-6ABA-4E3B-A467-1DA4669A77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B56C-858B-4036-A0D9-DBC63F9B36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1479600" y="1139760"/>
            <a:ext cx="6362640" cy="66672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1495440" y="2300400"/>
            <a:ext cx="6000840" cy="581040"/>
          </a:xfrm>
          <a:prstGeom prst="rect">
            <a:avLst/>
          </a:prstGeom>
          <a:ln w="0">
            <a:noFill/>
          </a:ln>
        </p:spPr>
      </p:pic>
      <p:pic>
        <p:nvPicPr>
          <p:cNvPr id="1333" name="图片 40986" descr=""/>
          <p:cNvPicPr/>
          <p:nvPr/>
        </p:nvPicPr>
        <p:blipFill>
          <a:blip r:embed="rId3"/>
          <a:stretch/>
        </p:blipFill>
        <p:spPr>
          <a:xfrm>
            <a:off x="401760" y="3505320"/>
            <a:ext cx="3438360" cy="2895480"/>
          </a:xfrm>
          <a:prstGeom prst="rect">
            <a:avLst/>
          </a:prstGeom>
          <a:ln w="0">
            <a:noFill/>
          </a:ln>
        </p:spPr>
      </p:pic>
      <p:sp>
        <p:nvSpPr>
          <p:cNvPr id="1334" name="矩形 40987"/>
          <p:cNvSpPr/>
          <p:nvPr/>
        </p:nvSpPr>
        <p:spPr>
          <a:xfrm>
            <a:off x="378000" y="4521240"/>
            <a:ext cx="292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矩形 40988"/>
          <p:cNvSpPr/>
          <p:nvPr/>
        </p:nvSpPr>
        <p:spPr>
          <a:xfrm>
            <a:off x="378000" y="5016600"/>
            <a:ext cx="292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40989"/>
          <p:cNvSpPr/>
          <p:nvPr/>
        </p:nvSpPr>
        <p:spPr>
          <a:xfrm>
            <a:off x="428760" y="5562720"/>
            <a:ext cx="292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40990"/>
          <p:cNvSpPr/>
          <p:nvPr/>
        </p:nvSpPr>
        <p:spPr>
          <a:xfrm>
            <a:off x="479520" y="6032520"/>
            <a:ext cx="292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图片 140289" descr=""/>
          <p:cNvPicPr/>
          <p:nvPr/>
        </p:nvPicPr>
        <p:blipFill>
          <a:blip r:embed="rId1"/>
          <a:stretch/>
        </p:blipFill>
        <p:spPr>
          <a:xfrm>
            <a:off x="423720" y="946080"/>
            <a:ext cx="3648240" cy="2400480"/>
          </a:xfrm>
          <a:prstGeom prst="rect">
            <a:avLst/>
          </a:prstGeom>
          <a:ln w="0">
            <a:noFill/>
          </a:ln>
        </p:spPr>
      </p:pic>
      <p:pic>
        <p:nvPicPr>
          <p:cNvPr id="1339" name="图片 140290" descr=""/>
          <p:cNvPicPr/>
          <p:nvPr/>
        </p:nvPicPr>
        <p:blipFill>
          <a:blip r:embed="rId2"/>
          <a:stretch/>
        </p:blipFill>
        <p:spPr>
          <a:xfrm>
            <a:off x="268200" y="3843360"/>
            <a:ext cx="4543560" cy="2828880"/>
          </a:xfrm>
          <a:prstGeom prst="rect">
            <a:avLst/>
          </a:prstGeom>
          <a:ln w="0">
            <a:noFill/>
          </a:ln>
        </p:spPr>
      </p:pic>
      <p:sp>
        <p:nvSpPr>
          <p:cNvPr id="1340" name="矩形 140291"/>
          <p:cNvSpPr/>
          <p:nvPr/>
        </p:nvSpPr>
        <p:spPr>
          <a:xfrm>
            <a:off x="453960" y="1473120"/>
            <a:ext cx="3291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40292"/>
          <p:cNvSpPr/>
          <p:nvPr/>
        </p:nvSpPr>
        <p:spPr>
          <a:xfrm>
            <a:off x="1050840" y="1981080"/>
            <a:ext cx="3291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矩形 140293"/>
          <p:cNvSpPr/>
          <p:nvPr/>
        </p:nvSpPr>
        <p:spPr>
          <a:xfrm>
            <a:off x="1266840" y="2514600"/>
            <a:ext cx="3290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40294"/>
          <p:cNvSpPr/>
          <p:nvPr/>
        </p:nvSpPr>
        <p:spPr>
          <a:xfrm>
            <a:off x="1266840" y="3048120"/>
            <a:ext cx="3290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40295"/>
          <p:cNvSpPr/>
          <p:nvPr/>
        </p:nvSpPr>
        <p:spPr>
          <a:xfrm>
            <a:off x="276120" y="4406760"/>
            <a:ext cx="3291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40296"/>
          <p:cNvSpPr/>
          <p:nvPr/>
        </p:nvSpPr>
        <p:spPr>
          <a:xfrm>
            <a:off x="1584360" y="4851360"/>
            <a:ext cx="32907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40297"/>
          <p:cNvSpPr/>
          <p:nvPr/>
        </p:nvSpPr>
        <p:spPr>
          <a:xfrm>
            <a:off x="1647720" y="5397480"/>
            <a:ext cx="3291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矩形 140298"/>
          <p:cNvSpPr/>
          <p:nvPr/>
        </p:nvSpPr>
        <p:spPr>
          <a:xfrm>
            <a:off x="2562120" y="5892840"/>
            <a:ext cx="136044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图片 139265" descr=""/>
          <p:cNvPicPr/>
          <p:nvPr/>
        </p:nvPicPr>
        <p:blipFill>
          <a:blip r:embed="rId1"/>
          <a:stretch/>
        </p:blipFill>
        <p:spPr>
          <a:xfrm>
            <a:off x="272880" y="865080"/>
            <a:ext cx="4686480" cy="5838840"/>
          </a:xfrm>
          <a:prstGeom prst="rect">
            <a:avLst/>
          </a:prstGeom>
          <a:ln w="0">
            <a:noFill/>
          </a:ln>
        </p:spPr>
      </p:pic>
      <p:sp>
        <p:nvSpPr>
          <p:cNvPr id="1349" name="矩形 139266"/>
          <p:cNvSpPr/>
          <p:nvPr/>
        </p:nvSpPr>
        <p:spPr>
          <a:xfrm>
            <a:off x="225360" y="1320840"/>
            <a:ext cx="4421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9267"/>
          <p:cNvSpPr/>
          <p:nvPr/>
        </p:nvSpPr>
        <p:spPr>
          <a:xfrm>
            <a:off x="1266840" y="1841400"/>
            <a:ext cx="4421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9268"/>
          <p:cNvSpPr/>
          <p:nvPr/>
        </p:nvSpPr>
        <p:spPr>
          <a:xfrm>
            <a:off x="1355760" y="2298600"/>
            <a:ext cx="4421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9269"/>
          <p:cNvSpPr/>
          <p:nvPr/>
        </p:nvSpPr>
        <p:spPr>
          <a:xfrm>
            <a:off x="1380960" y="2819520"/>
            <a:ext cx="4421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9270"/>
          <p:cNvSpPr/>
          <p:nvPr/>
        </p:nvSpPr>
        <p:spPr>
          <a:xfrm>
            <a:off x="98280" y="4863960"/>
            <a:ext cx="4421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9271"/>
          <p:cNvSpPr/>
          <p:nvPr/>
        </p:nvSpPr>
        <p:spPr>
          <a:xfrm>
            <a:off x="378000" y="5346720"/>
            <a:ext cx="4421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9272"/>
          <p:cNvSpPr/>
          <p:nvPr/>
        </p:nvSpPr>
        <p:spPr>
          <a:xfrm>
            <a:off x="581040" y="5842080"/>
            <a:ext cx="4421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9273"/>
          <p:cNvSpPr/>
          <p:nvPr/>
        </p:nvSpPr>
        <p:spPr>
          <a:xfrm>
            <a:off x="631800" y="6388200"/>
            <a:ext cx="44211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7" name="图片 138241" descr=""/>
          <p:cNvPicPr/>
          <p:nvPr/>
        </p:nvPicPr>
        <p:blipFill>
          <a:blip r:embed="rId1"/>
          <a:stretch/>
        </p:blipFill>
        <p:spPr>
          <a:xfrm>
            <a:off x="325440" y="866880"/>
            <a:ext cx="4809960" cy="2762280"/>
          </a:xfrm>
          <a:prstGeom prst="rect">
            <a:avLst/>
          </a:prstGeom>
          <a:ln w="0">
            <a:noFill/>
          </a:ln>
        </p:spPr>
      </p:pic>
      <p:pic>
        <p:nvPicPr>
          <p:cNvPr id="1358" name="图片 138242" descr=""/>
          <p:cNvPicPr/>
          <p:nvPr/>
        </p:nvPicPr>
        <p:blipFill>
          <a:blip r:embed="rId2"/>
          <a:stretch/>
        </p:blipFill>
        <p:spPr>
          <a:xfrm>
            <a:off x="407880" y="4054320"/>
            <a:ext cx="4695840" cy="2533680"/>
          </a:xfrm>
          <a:prstGeom prst="rect">
            <a:avLst/>
          </a:prstGeom>
          <a:ln w="0">
            <a:noFill/>
          </a:ln>
        </p:spPr>
      </p:pic>
      <p:sp>
        <p:nvSpPr>
          <p:cNvPr id="1359" name="矩形 138243"/>
          <p:cNvSpPr/>
          <p:nvPr/>
        </p:nvSpPr>
        <p:spPr>
          <a:xfrm>
            <a:off x="378000" y="1333440"/>
            <a:ext cx="412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8244"/>
          <p:cNvSpPr/>
          <p:nvPr/>
        </p:nvSpPr>
        <p:spPr>
          <a:xfrm>
            <a:off x="530280" y="1816200"/>
            <a:ext cx="4129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8245"/>
          <p:cNvSpPr/>
          <p:nvPr/>
        </p:nvSpPr>
        <p:spPr>
          <a:xfrm>
            <a:off x="504720" y="2324160"/>
            <a:ext cx="4129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矩形 138246"/>
          <p:cNvSpPr/>
          <p:nvPr/>
        </p:nvSpPr>
        <p:spPr>
          <a:xfrm>
            <a:off x="1825560" y="2857680"/>
            <a:ext cx="188136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矩形 138247"/>
          <p:cNvSpPr/>
          <p:nvPr/>
        </p:nvSpPr>
        <p:spPr>
          <a:xfrm>
            <a:off x="263520" y="4635360"/>
            <a:ext cx="4129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8248"/>
          <p:cNvSpPr/>
          <p:nvPr/>
        </p:nvSpPr>
        <p:spPr>
          <a:xfrm>
            <a:off x="390600" y="5118120"/>
            <a:ext cx="412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8249"/>
          <p:cNvSpPr/>
          <p:nvPr/>
        </p:nvSpPr>
        <p:spPr>
          <a:xfrm>
            <a:off x="403200" y="5664240"/>
            <a:ext cx="4129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8250"/>
          <p:cNvSpPr/>
          <p:nvPr/>
        </p:nvSpPr>
        <p:spPr>
          <a:xfrm>
            <a:off x="428760" y="6172200"/>
            <a:ext cx="412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7217" descr=""/>
          <p:cNvPicPr/>
          <p:nvPr/>
        </p:nvPicPr>
        <p:blipFill>
          <a:blip r:embed="rId1"/>
          <a:stretch/>
        </p:blipFill>
        <p:spPr>
          <a:xfrm>
            <a:off x="382680" y="738360"/>
            <a:ext cx="5000400" cy="599112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7218"/>
          <p:cNvSpPr/>
          <p:nvPr/>
        </p:nvSpPr>
        <p:spPr>
          <a:xfrm>
            <a:off x="428760" y="1295280"/>
            <a:ext cx="4002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7219"/>
          <p:cNvSpPr/>
          <p:nvPr/>
        </p:nvSpPr>
        <p:spPr>
          <a:xfrm>
            <a:off x="555480" y="1803240"/>
            <a:ext cx="4002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7220"/>
          <p:cNvSpPr/>
          <p:nvPr/>
        </p:nvSpPr>
        <p:spPr>
          <a:xfrm>
            <a:off x="644400" y="2273400"/>
            <a:ext cx="4002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7221"/>
          <p:cNvSpPr/>
          <p:nvPr/>
        </p:nvSpPr>
        <p:spPr>
          <a:xfrm>
            <a:off x="733320" y="2819520"/>
            <a:ext cx="4002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7222"/>
          <p:cNvSpPr/>
          <p:nvPr/>
        </p:nvSpPr>
        <p:spPr>
          <a:xfrm>
            <a:off x="428760" y="4838760"/>
            <a:ext cx="4002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7223"/>
          <p:cNvSpPr/>
          <p:nvPr/>
        </p:nvSpPr>
        <p:spPr>
          <a:xfrm>
            <a:off x="568440" y="5334120"/>
            <a:ext cx="4002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7224"/>
          <p:cNvSpPr/>
          <p:nvPr/>
        </p:nvSpPr>
        <p:spPr>
          <a:xfrm>
            <a:off x="733320" y="5880240"/>
            <a:ext cx="4002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7225"/>
          <p:cNvSpPr/>
          <p:nvPr/>
        </p:nvSpPr>
        <p:spPr>
          <a:xfrm>
            <a:off x="771480" y="6362640"/>
            <a:ext cx="40021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图片 136193" descr=""/>
          <p:cNvPicPr/>
          <p:nvPr/>
        </p:nvPicPr>
        <p:blipFill>
          <a:blip r:embed="rId1"/>
          <a:stretch/>
        </p:blipFill>
        <p:spPr>
          <a:xfrm>
            <a:off x="361800" y="849240"/>
            <a:ext cx="4762800" cy="277200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136194" descr=""/>
          <p:cNvPicPr/>
          <p:nvPr/>
        </p:nvPicPr>
        <p:blipFill>
          <a:blip r:embed="rId2"/>
          <a:stretch/>
        </p:blipFill>
        <p:spPr>
          <a:xfrm>
            <a:off x="325440" y="4108320"/>
            <a:ext cx="6181560" cy="2476800"/>
          </a:xfrm>
          <a:prstGeom prst="rect">
            <a:avLst/>
          </a:prstGeom>
          <a:ln w="0">
            <a:noFill/>
          </a:ln>
        </p:spPr>
      </p:pic>
      <p:sp>
        <p:nvSpPr>
          <p:cNvPr id="1378" name="矩形 136195"/>
          <p:cNvSpPr/>
          <p:nvPr/>
        </p:nvSpPr>
        <p:spPr>
          <a:xfrm>
            <a:off x="403200" y="1359000"/>
            <a:ext cx="3900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矩形 136196"/>
          <p:cNvSpPr/>
          <p:nvPr/>
        </p:nvSpPr>
        <p:spPr>
          <a:xfrm>
            <a:off x="936720" y="1892160"/>
            <a:ext cx="390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6197"/>
          <p:cNvSpPr/>
          <p:nvPr/>
        </p:nvSpPr>
        <p:spPr>
          <a:xfrm>
            <a:off x="974880" y="2374920"/>
            <a:ext cx="3900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6198"/>
          <p:cNvSpPr/>
          <p:nvPr/>
        </p:nvSpPr>
        <p:spPr>
          <a:xfrm>
            <a:off x="1698480" y="2870280"/>
            <a:ext cx="198288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6199"/>
          <p:cNvSpPr/>
          <p:nvPr/>
        </p:nvSpPr>
        <p:spPr>
          <a:xfrm>
            <a:off x="314280" y="4686480"/>
            <a:ext cx="478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6200"/>
          <p:cNvSpPr/>
          <p:nvPr/>
        </p:nvSpPr>
        <p:spPr>
          <a:xfrm>
            <a:off x="1177920" y="5194440"/>
            <a:ext cx="478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6201"/>
          <p:cNvSpPr/>
          <p:nvPr/>
        </p:nvSpPr>
        <p:spPr>
          <a:xfrm>
            <a:off x="1101600" y="5676840"/>
            <a:ext cx="478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6202"/>
          <p:cNvSpPr/>
          <p:nvPr/>
        </p:nvSpPr>
        <p:spPr>
          <a:xfrm>
            <a:off x="1089000" y="6159600"/>
            <a:ext cx="478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图片 135169" descr=""/>
          <p:cNvPicPr/>
          <p:nvPr/>
        </p:nvPicPr>
        <p:blipFill>
          <a:blip r:embed="rId1"/>
          <a:stretch/>
        </p:blipFill>
        <p:spPr>
          <a:xfrm>
            <a:off x="276120" y="932040"/>
            <a:ext cx="7677360" cy="2581200"/>
          </a:xfrm>
          <a:prstGeom prst="rect">
            <a:avLst/>
          </a:prstGeom>
          <a:ln w="0">
            <a:noFill/>
          </a:ln>
        </p:spPr>
      </p:pic>
      <p:sp>
        <p:nvSpPr>
          <p:cNvPr id="1387" name="矩形 135170"/>
          <p:cNvSpPr/>
          <p:nvPr/>
        </p:nvSpPr>
        <p:spPr>
          <a:xfrm>
            <a:off x="250920" y="1523880"/>
            <a:ext cx="6021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35171"/>
          <p:cNvSpPr/>
          <p:nvPr/>
        </p:nvSpPr>
        <p:spPr>
          <a:xfrm>
            <a:off x="2600280" y="2031840"/>
            <a:ext cx="6021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35172"/>
          <p:cNvSpPr/>
          <p:nvPr/>
        </p:nvSpPr>
        <p:spPr>
          <a:xfrm>
            <a:off x="2587680" y="2476440"/>
            <a:ext cx="6021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5173"/>
          <p:cNvSpPr/>
          <p:nvPr/>
        </p:nvSpPr>
        <p:spPr>
          <a:xfrm>
            <a:off x="2587680" y="2997360"/>
            <a:ext cx="60213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55:27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